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E333-1475-4C49-BDC9-EB5493C424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5E97-12D4-4C35-8871-5F7224C805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0821-8A44-45E9-B1FC-72A0AD9AA6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1701A-B825-4C40-B6AD-E2370E1A21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FFFC6-3C98-4E8D-8352-D706C5E838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F0DC-6288-4283-A50D-0F927044119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58090-ACCD-4273-8CD4-3E6F16DECE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8BB7-A618-4BC2-B185-52FDF7E1A0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AD25-C78F-44E5-A3BA-AB87A0BC25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293C-AD2B-4A68-B535-240A001DFE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8D72-69F0-4425-BF60-F91B6FE444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AE8E-DB26-4CA4-803B-B3B88B6FF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7D2A-4BFB-4152-8E6E-0F96C0EC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A9C6-2EBF-4F74-B58D-1194A63DE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128E-9ACC-433F-BDDB-95D3E509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6B1F-C3B1-4882-899A-3EE43B24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598F-1887-4902-81F0-8184BAAE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6340-2190-43F3-A58F-50688F8A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5B21-36AB-4899-A91F-846311A98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1A7D-7FB7-4D11-9DE4-986A983D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C83A-737E-49CD-B6EF-D4C92CCA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6DD4-0572-425C-8606-12341C4F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F3C5-E590-4FE6-B9A7-E20070390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43C93-F59A-4A00-8C2E-4DEA929FEA5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3_03_08_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Organization Chart 7"/>
          <p:cNvGrpSpPr/>
          <p:nvPr/>
        </p:nvGrpSpPr>
        <p:grpSpPr>
          <a:xfrm>
            <a:off x="467280" y="1628640"/>
            <a:ext cx="8138520" cy="3382920"/>
            <a:chOff x="467280" y="1628640"/>
            <a:chExt cx="8138520" cy="3382920"/>
          </a:xfrm>
        </p:grpSpPr>
        <p:cxnSp>
          <p:nvCxnSpPr>
            <p:cNvPr id="72" name="_s2052"/>
            <p:cNvCxnSpPr>
              <a:stCxn id="73" idx="0"/>
              <a:endCxn id="74" idx="2"/>
            </p:cNvCxnSpPr>
            <p:nvPr/>
          </p:nvCxnSpPr>
          <p:spPr>
            <a:xfrm flipV="1" rot="16200000">
              <a:off x="5239800" y="1647000"/>
              <a:ext cx="1257840" cy="288072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" name="_s2053"/>
            <p:cNvCxnSpPr>
              <a:stCxn id="76" idx="0"/>
              <a:endCxn id="74" idx="1"/>
            </p:cNvCxnSpPr>
            <p:nvPr/>
          </p:nvCxnSpPr>
          <p:spPr>
            <a:xfrm flipV="1" rot="16200000">
              <a:off x="3871440" y="3015360"/>
              <a:ext cx="1257840" cy="14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" name="_s2054"/>
            <p:cNvCxnSpPr>
              <a:stCxn id="78" idx="0"/>
              <a:endCxn id="74" idx="0"/>
            </p:cNvCxnSpPr>
            <p:nvPr/>
          </p:nvCxnSpPr>
          <p:spPr>
            <a:xfrm flipH="1" flipV="1" rot="5400000">
              <a:off x="2467800" y="1755360"/>
              <a:ext cx="1257840" cy="266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" name="_s2055"/>
            <p:cNvSpPr/>
            <p:nvPr/>
          </p:nvSpPr>
          <p:spPr>
            <a:xfrm>
              <a:off x="2483280" y="1628640"/>
              <a:ext cx="3889080" cy="830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Среды обитан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056"/>
            <p:cNvSpPr/>
            <p:nvPr/>
          </p:nvSpPr>
          <p:spPr>
            <a:xfrm>
              <a:off x="467280" y="3716280"/>
              <a:ext cx="259488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наземно-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здуш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7"/>
            <p:cNvSpPr/>
            <p:nvPr/>
          </p:nvSpPr>
          <p:spPr>
            <a:xfrm>
              <a:off x="3277080" y="3716280"/>
              <a:ext cx="259164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д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058"/>
            <p:cNvSpPr/>
            <p:nvPr/>
          </p:nvSpPr>
          <p:spPr>
            <a:xfrm>
              <a:off x="6011280" y="3716280"/>
              <a:ext cx="259452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почвен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10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арактеристика сре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3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      водная            почвенная        назем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ы                                                            воздушная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KorkinaO2"/>
          <p:cNvPicPr/>
          <p:nvPr/>
        </p:nvPicPr>
        <p:blipFill>
          <a:blip r:embed="rId1"/>
          <a:stretch/>
        </p:blipFill>
        <p:spPr>
          <a:xfrm>
            <a:off x="468360" y="2708280"/>
            <a:ext cx="8207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АДАП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СПОСОБЛЕНИЯ, ОБЕСПЕЧИВАЮЩИЕ ВОЗМОЖНОСТЬ ОБИТАНИЯ ОРГАНИЗМОВ В УСЛОВИЯХ ВНЕШНЕ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03_05_04_08"/>
          <p:cNvPicPr/>
          <p:nvPr/>
        </p:nvPicPr>
        <p:blipFill>
          <a:blip r:embed="rId1"/>
          <a:stretch/>
        </p:blipFill>
        <p:spPr>
          <a:xfrm>
            <a:off x="4572000" y="177336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03_03_06_27"/>
          <p:cNvPicPr/>
          <p:nvPr/>
        </p:nvPicPr>
        <p:blipFill>
          <a:blip r:embed="rId1"/>
          <a:stretch/>
        </p:blipFill>
        <p:spPr>
          <a:xfrm>
            <a:off x="0" y="281160"/>
            <a:ext cx="91440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ы по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да обитания – 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азличают наземно– воздушную, водную и почвенную среды об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Каждый организм приспособлен к жизни в определенной ср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03_03_08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03_04_03_03"/>
          <p:cNvPicPr/>
          <p:nvPr/>
        </p:nvPicPr>
        <p:blipFill>
          <a:blip r:embed="rId1"/>
          <a:stretch/>
        </p:blipFill>
        <p:spPr>
          <a:xfrm>
            <a:off x="-757080" y="-243000"/>
            <a:ext cx="9901080" cy="74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8"/>
          <p:cNvSpPr/>
          <p:nvPr/>
        </p:nvSpPr>
        <p:spPr>
          <a:xfrm>
            <a:off x="3098880" y="1652760"/>
            <a:ext cx="121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5"/>
          <p:cNvGraphicFramePr/>
          <p:nvPr/>
        </p:nvGraphicFramePr>
        <p:xfrm>
          <a:off x="2843280" y="2060640"/>
          <a:ext cx="685800" cy="27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060640"/>
                    <a:ext cx="685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10"/>
          <p:cNvSpPr/>
          <p:nvPr/>
        </p:nvSpPr>
        <p:spPr>
          <a:xfrm>
            <a:off x="3098880" y="1652760"/>
            <a:ext cx="173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19280" y="260280"/>
          <a:ext cx="5291280" cy="5473800"/>
        </p:xfrm>
        <a:graphic>
          <a:graphicData uri="http://schemas.openxmlformats.org/drawingml/2006/table">
            <a:tbl>
              <a:tblPr/>
              <a:tblGrid>
                <a:gridCol w="2173320"/>
                <a:gridCol w="3117960"/>
              </a:tblGrid>
              <a:tr h="17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 царст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текаемая форм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слизи на т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вни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ожный слой ж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8" descr="03_04_04_02"/>
          <p:cNvPicPr/>
          <p:nvPr/>
        </p:nvPicPr>
        <p:blipFill>
          <a:blip r:embed="rId2"/>
          <a:stretch/>
        </p:blipFill>
        <p:spPr>
          <a:xfrm>
            <a:off x="4788000" y="1484280"/>
            <a:ext cx="4105080" cy="225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03_05_04_26"/>
          <p:cNvPicPr/>
          <p:nvPr/>
        </p:nvPicPr>
        <p:blipFill>
          <a:blip r:embed="rId3"/>
          <a:stretch/>
        </p:blipFill>
        <p:spPr>
          <a:xfrm>
            <a:off x="4788000" y="3933720"/>
            <a:ext cx="417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03_03_06_31"/>
          <p:cNvPicPr/>
          <p:nvPr/>
        </p:nvPicPr>
        <p:blipFill>
          <a:blip r:embed="rId1"/>
          <a:stretch/>
        </p:blipFill>
        <p:spPr>
          <a:xfrm>
            <a:off x="142920" y="1357200"/>
            <a:ext cx="4714920" cy="4021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827600" y="907560"/>
            <a:ext cx="43164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ыл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ля передвижения по твердо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р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экономного расходования влаг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опыления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5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ы органы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рень,  стебель, листья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опыле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яркая окраска цветков, аром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сохранению вл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03_03_05_06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0" y="3429000"/>
            <a:ext cx="3635280" cy="3284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03_05_03_22"/>
          <p:cNvPicPr/>
          <p:nvPr/>
        </p:nvPicPr>
        <p:blipFill>
          <a:blip r:embed="rId2"/>
          <a:stretch/>
        </p:blipFill>
        <p:spPr>
          <a:xfrm>
            <a:off x="3635280" y="3141720"/>
            <a:ext cx="5292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1" descr="03_04_03_07"/>
          <p:cNvPicPr/>
          <p:nvPr/>
        </p:nvPicPr>
        <p:blipFill>
          <a:blip r:embed="rId1"/>
          <a:stretch/>
        </p:blipFill>
        <p:spPr>
          <a:xfrm>
            <a:off x="4788000" y="3573360"/>
            <a:ext cx="4103640" cy="271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03_04_03_06"/>
          <p:cNvPicPr/>
          <p:nvPr/>
        </p:nvPicPr>
        <p:blipFill>
          <a:blip r:embed="rId2"/>
          <a:stretch/>
        </p:blipFill>
        <p:spPr>
          <a:xfrm>
            <a:off x="4788000" y="476280"/>
            <a:ext cx="4038480" cy="2368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6"/>
          <p:cNvSpPr/>
          <p:nvPr/>
        </p:nvSpPr>
        <p:spPr>
          <a:xfrm>
            <a:off x="250920" y="1125360"/>
            <a:ext cx="431640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ы зрения развиты слабо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 роющего типа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ое обон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СРЕДА ОБ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3_04_03_07"/>
          <p:cNvPicPr/>
          <p:nvPr/>
        </p:nvPicPr>
        <p:blipFill>
          <a:blip r:embed="rId1"/>
          <a:stretch/>
        </p:blipFill>
        <p:spPr>
          <a:xfrm>
            <a:off x="4648320" y="2523960"/>
            <a:ext cx="40384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5:30:59Z</dcterms:created>
  <dc:creator>2</dc:creator>
  <dc:description/>
  <dc:language>en-US</dc:language>
  <cp:lastModifiedBy>Владелец</cp:lastModifiedBy>
  <dcterms:modified xsi:type="dcterms:W3CDTF">2009-02-02T07:50:23Z</dcterms:modified>
  <cp:revision>36</cp:revision>
  <dc:subject/>
  <dc:title>Среды обитания организмов. Приспособленность организмов к среде обитания.</dc:title>
</cp:coreProperties>
</file>